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E4A-F313-42D5-AF24-1E238768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264-9129-4D7D-9704-379203F7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444-B6F7-4A77-891F-5299B52D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5AE-CCA7-4981-BB54-60B9CD5D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E58-469A-436B-A092-D928B061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90D-563B-487E-86CB-EFED0CE7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7E6-71BD-4D97-8E64-0BB0EC93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654-D491-49B6-8711-0A5A4E70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5A2-ADBE-4492-8E26-25DFABE6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AE1-E00E-4F73-95B9-722D1E7D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187-D772-4AC7-A322-232FD238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E3A-777C-44D7-A016-35F6E8AA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608C-6219-48E9-9D27-B592B7B0F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4495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o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Ki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r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ron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ro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bout 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xpec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on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pposite of w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kinds of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ro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u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Verba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r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haracter says one thing but means the 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sarcas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sarcast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locker room smells really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wesome!  Another homework pack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ramati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r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 reader understands more about the events of a story than a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know something that a character doe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’s parents are proud of the “A” he got on the test, but we know he ch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writes a love poem to Judy but we know that Judy loves Dev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7777"/>
                </a:solidFill>
                <a:latin typeface="Arial"/>
              </a:rPr>
              <a:t>Situationa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r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what actually happens is the opposite of what is 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thing about the situation is completely un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Sedgwick’s last words were, “They couldn’t hit an elephant at this dista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 Gates uses an Apple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 that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ron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n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nexpected by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’s </a:t>
            </a:r>
            <a:r>
              <a:rPr b="1" lang="en-US" sz="3200" spc="-1" strike="noStrike">
                <a:solidFill>
                  <a:srgbClr val="777777"/>
                </a:solidFill>
                <a:latin typeface="Arial"/>
              </a:rPr>
              <a:t>dram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nexp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’s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tua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’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rca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’s </a:t>
            </a: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verb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1T16:12:34Z</dcterms:created>
  <dc:creator>Mr. Morton</dc:creator>
  <dc:description/>
  <dc:language>en-US</dc:language>
  <cp:lastModifiedBy>MASD</cp:lastModifiedBy>
  <dcterms:modified xsi:type="dcterms:W3CDTF">2012-01-11T13:04:57Z</dcterms:modified>
  <cp:revision>5</cp:revision>
  <dc:subject/>
  <dc:title>irony lesson</dc:title>
</cp:coreProperties>
</file>